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9E1-570F-4659-BD42-D079BA9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564-676E-48D8-8817-72AE3400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D29-F497-497C-97EC-A2E2C6A0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8B6-9F95-460B-88FC-6005DC48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0CE0-22D4-41BA-B4FD-0F4E7BB5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7D0B-6660-4B5A-8E13-06A5F57E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A2DE6-694B-4B13-ACD7-DAC6A28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3E49-6C93-4578-B7DD-49B90D47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D849-7AE7-4A50-8563-5384BED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AD52C-5EC6-41CD-AAF2-BE22380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1153B-BCE9-44D8-9BD4-5C7EB4B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A8B-4703-4DCE-B89A-A0DAD63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36171-7882-4A7F-B809-52D6946B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8F7F8-58E4-4B7C-B86D-7C8AD7FC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400A-AABD-44B9-8992-6EC6121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3652B-2E06-485D-BCF0-F1E7DAC1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E19A9-7A77-4B0E-A2F1-55BBDDC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B0C-E26A-49E8-8304-5159226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5B3-49F5-413D-8B8C-4E61693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C99-01FF-4552-AFF1-4FB3016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B30-2897-4418-B49A-385660F0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2B6-B347-49A4-B6F3-65E9FFE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DB6-8DFA-407D-AA46-446AF61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7C3-56AE-403D-92DE-ABC1FF2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0"/>
            <a:ext cx="9144000" cy="1752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457200" cy="60962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380880"/>
            <a:ext cx="4269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99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CA14-BAE4-432E-AB5C-2490815D0FCB}" type="slidenum">
              <a:rPr b="0" lang="en-US" sz="3200" spc="-1" strike="noStrike">
                <a:solidFill>
                  <a:srgbClr val="009999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20301000">
            <a:off x="990360" y="-304560"/>
            <a:ext cx="7297560" cy="6035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8381880" cy="3808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457200" cy="60962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106668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99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893-9158-4539-A1B9-02A86FD680DF}" type="slidenum">
              <a:rPr b="0" lang="en-US" sz="3200" spc="-1" strike="noStrike">
                <a:solidFill>
                  <a:srgbClr val="009999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6"/>
          </p:nvPr>
        </p:nvSpPr>
        <p:spPr>
          <a:xfrm>
            <a:off x="297180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orizon-academy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ddition &amp; Subtraction of Decimal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 McFa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rizon Acade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eland Park, Kan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www.horizon-academy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 Similar 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1668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4 – 1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2 = _____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27280" y="3660840"/>
            <a:ext cx="2128680" cy="2289960"/>
            <a:chOff x="1727280" y="3660840"/>
            <a:chExt cx="2128680" cy="2289960"/>
          </a:xfrm>
        </p:grpSpPr>
        <p:grpSp>
          <p:nvGrpSpPr>
            <p:cNvPr id="196" name=""/>
            <p:cNvGrpSpPr/>
            <p:nvPr/>
          </p:nvGrpSpPr>
          <p:grpSpPr>
            <a:xfrm>
              <a:off x="1727280" y="3660840"/>
              <a:ext cx="2128680" cy="1531800"/>
              <a:chOff x="1727280" y="3660840"/>
              <a:chExt cx="2128680" cy="15318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27280" y="3660840"/>
                <a:ext cx="21286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1200" spc="-1" strike="noStrike">
                    <a:solidFill>
                      <a:srgbClr val="3366cc"/>
                    </a:solidFill>
                    <a:latin typeface="Tahoma"/>
                  </a:rPr>
                  <a:t>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3 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-  1.2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	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90880" y="5079960"/>
                <a:ext cx="1590480" cy="112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369880" y="5186520"/>
              <a:ext cx="981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2.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152880" y="2949480"/>
            <a:ext cx="1234800" cy="928800"/>
            <a:chOff x="3152880" y="2949480"/>
            <a:chExt cx="1234800" cy="928800"/>
          </a:xfrm>
        </p:grpSpPr>
        <p:sp>
          <p:nvSpPr>
            <p:cNvPr id="201" name=""/>
            <p:cNvSpPr/>
            <p:nvPr/>
          </p:nvSpPr>
          <p:spPr>
            <a:xfrm>
              <a:off x="3152880" y="2949480"/>
              <a:ext cx="123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321000" y="3511440"/>
              <a:ext cx="199440" cy="36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55640" y="3976560"/>
            <a:ext cx="1531440" cy="642600"/>
            <a:chOff x="755640" y="3976560"/>
            <a:chExt cx="1531440" cy="642600"/>
          </a:xfrm>
        </p:grpSpPr>
        <p:sp>
          <p:nvSpPr>
            <p:cNvPr id="204" name=""/>
            <p:cNvSpPr/>
            <p:nvPr/>
          </p:nvSpPr>
          <p:spPr>
            <a:xfrm>
              <a:off x="755640" y="397656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76960" y="4405320"/>
              <a:ext cx="51012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20640" y="4068720"/>
            <a:ext cx="2051280" cy="642600"/>
            <a:chOff x="3320640" y="4068720"/>
            <a:chExt cx="2051280" cy="642600"/>
          </a:xfrm>
        </p:grpSpPr>
        <p:sp>
          <p:nvSpPr>
            <p:cNvPr id="207" name=""/>
            <p:cNvSpPr/>
            <p:nvPr/>
          </p:nvSpPr>
          <p:spPr>
            <a:xfrm>
              <a:off x="3789000" y="4068720"/>
              <a:ext cx="158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320640" y="4478400"/>
              <a:ext cx="53532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09560" y="2973240"/>
            <a:ext cx="1015920" cy="905040"/>
            <a:chOff x="1609560" y="2973240"/>
            <a:chExt cx="1015920" cy="905040"/>
          </a:xfrm>
        </p:grpSpPr>
        <p:sp>
          <p:nvSpPr>
            <p:cNvPr id="210" name=""/>
            <p:cNvSpPr/>
            <p:nvPr/>
          </p:nvSpPr>
          <p:spPr>
            <a:xfrm>
              <a:off x="1609560" y="297324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19040" y="3511440"/>
              <a:ext cx="200160" cy="36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776920" y="355608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60600" y="5961240"/>
            <a:ext cx="2714400" cy="587520"/>
            <a:chOff x="1560600" y="5961240"/>
            <a:chExt cx="2714400" cy="587520"/>
          </a:xfrm>
        </p:grpSpPr>
        <p:sp>
          <p:nvSpPr>
            <p:cNvPr id="214" name=""/>
            <p:cNvSpPr/>
            <p:nvPr/>
          </p:nvSpPr>
          <p:spPr>
            <a:xfrm>
              <a:off x="1560600" y="5961240"/>
              <a:ext cx="27144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ar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743280" y="5967360"/>
              <a:ext cx="421920" cy="581400"/>
              <a:chOff x="3743280" y="5967360"/>
              <a:chExt cx="421920" cy="581400"/>
            </a:xfrm>
          </p:grpSpPr>
          <p:sp>
            <p:nvSpPr>
              <p:cNvPr id="216" name=""/>
              <p:cNvSpPr/>
              <p:nvPr/>
            </p:nvSpPr>
            <p:spPr>
              <a:xfrm>
                <a:off x="3743280" y="5967360"/>
                <a:ext cx="421920" cy="4755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06280" y="6028200"/>
                <a:ext cx="2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695240" y="5967360"/>
              <a:ext cx="421920" cy="581400"/>
              <a:chOff x="1695240" y="5967360"/>
              <a:chExt cx="421920" cy="581400"/>
            </a:xfrm>
          </p:grpSpPr>
          <p:sp>
            <p:nvSpPr>
              <p:cNvPr id="219" name=""/>
              <p:cNvSpPr/>
              <p:nvPr/>
            </p:nvSpPr>
            <p:spPr>
              <a:xfrm>
                <a:off x="1695240" y="5967360"/>
                <a:ext cx="421920" cy="4755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8240" y="6028200"/>
                <a:ext cx="2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 Similar 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74600"/>
            <a:ext cx="5486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34 – 1.2 = _____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27280" y="3660840"/>
            <a:ext cx="2448000" cy="2348640"/>
            <a:chOff x="1727280" y="3660840"/>
            <a:chExt cx="2448000" cy="2348640"/>
          </a:xfrm>
        </p:grpSpPr>
        <p:grpSp>
          <p:nvGrpSpPr>
            <p:cNvPr id="224" name=""/>
            <p:cNvGrpSpPr/>
            <p:nvPr/>
          </p:nvGrpSpPr>
          <p:grpSpPr>
            <a:xfrm>
              <a:off x="1727280" y="3660840"/>
              <a:ext cx="2448000" cy="1562040"/>
              <a:chOff x="1727280" y="3660840"/>
              <a:chExt cx="2448000" cy="1562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727280" y="3660840"/>
                <a:ext cx="2448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1200" spc="-1" strike="noStrike">
                    <a:solidFill>
                      <a:srgbClr val="3366cc"/>
                    </a:solidFill>
                    <a:latin typeface="Tahoma"/>
                  </a:rPr>
                  <a:t>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34. </a:t>
                </a:r>
                <a:r>
                  <a:rPr b="1" lang="en-US" sz="4400" spc="-1" strike="noStrike">
                    <a:solidFill>
                      <a:srgbClr val="cc0000"/>
                    </a:solidFill>
                    <a:latin typeface="Tahoma"/>
                  </a:rPr>
                  <a:t>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-  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1. 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90880" y="5079960"/>
                <a:ext cx="2022480" cy="142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905200" y="5245200"/>
              <a:ext cx="633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38480" y="3781440"/>
            <a:ext cx="145800" cy="2319120"/>
            <a:chOff x="3138480" y="3781440"/>
            <a:chExt cx="145800" cy="2319120"/>
          </a:xfrm>
        </p:grpSpPr>
        <p:sp>
          <p:nvSpPr>
            <p:cNvPr id="229" name=""/>
            <p:cNvSpPr/>
            <p:nvPr/>
          </p:nvSpPr>
          <p:spPr>
            <a:xfrm>
              <a:off x="3284280" y="3781440"/>
              <a:ext cx="0" cy="2319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8480" y="3781440"/>
              <a:ext cx="0" cy="2319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87560" y="2732040"/>
            <a:ext cx="1146240" cy="866880"/>
            <a:chOff x="1987560" y="2732040"/>
            <a:chExt cx="1146240" cy="866880"/>
          </a:xfrm>
        </p:grpSpPr>
        <p:sp>
          <p:nvSpPr>
            <p:cNvPr id="232" name=""/>
            <p:cNvSpPr/>
            <p:nvPr/>
          </p:nvSpPr>
          <p:spPr>
            <a:xfrm>
              <a:off x="1987560" y="273204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78200" y="3287880"/>
              <a:ext cx="54000" cy="311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37000" y="2709720"/>
            <a:ext cx="1430280" cy="863640"/>
            <a:chOff x="3537000" y="2709720"/>
            <a:chExt cx="1430280" cy="863640"/>
          </a:xfrm>
        </p:grpSpPr>
        <p:sp>
          <p:nvSpPr>
            <p:cNvPr id="235" name=""/>
            <p:cNvSpPr/>
            <p:nvPr/>
          </p:nvSpPr>
          <p:spPr>
            <a:xfrm>
              <a:off x="3537000" y="2709720"/>
              <a:ext cx="14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635280" y="3262320"/>
              <a:ext cx="54000" cy="311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78160" y="384192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40040" y="3492360"/>
            <a:ext cx="306360" cy="749160"/>
            <a:chOff x="2840040" y="3492360"/>
            <a:chExt cx="306360" cy="749160"/>
          </a:xfrm>
        </p:grpSpPr>
        <p:sp>
          <p:nvSpPr>
            <p:cNvPr id="239" name=""/>
            <p:cNvSpPr/>
            <p:nvPr/>
          </p:nvSpPr>
          <p:spPr>
            <a:xfrm>
              <a:off x="2840040" y="349236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44720" y="3835080"/>
              <a:ext cx="260280" cy="406440"/>
              <a:chOff x="2844720" y="3835080"/>
              <a:chExt cx="260280" cy="40644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2844720" y="3835080"/>
                <a:ext cx="241560" cy="40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863800" y="3835080"/>
                <a:ext cx="241200" cy="40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723960" y="2004840"/>
            <a:ext cx="765000" cy="64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2081160"/>
            <a:ext cx="406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31240" y="1366920"/>
            <a:ext cx="5627880" cy="1490040"/>
            <a:chOff x="2631240" y="1366920"/>
            <a:chExt cx="5627880" cy="1490040"/>
          </a:xfrm>
        </p:grpSpPr>
        <p:sp>
          <p:nvSpPr>
            <p:cNvPr id="246" name=""/>
            <p:cNvSpPr/>
            <p:nvPr/>
          </p:nvSpPr>
          <p:spPr>
            <a:xfrm>
              <a:off x="6582600" y="2011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cc"/>
                  </a:solidFill>
                  <a:latin typeface="Tahoma"/>
                </a:rPr>
                <a:t>3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186000">
              <a:off x="2660760" y="1698120"/>
              <a:ext cx="5568840" cy="827280"/>
            </a:xfrm>
            <a:custGeom>
              <a:avLst/>
              <a:gdLst/>
              <a:ahLst/>
              <a:rect l="l" t="t" r="r" b="b"/>
              <a:pathLst>
                <a:path w="2843" h="1259">
                  <a:moveTo>
                    <a:pt x="0" y="88"/>
                  </a:moveTo>
                  <a:cubicBezTo>
                    <a:pt x="939" y="44"/>
                    <a:pt x="1878" y="0"/>
                    <a:pt x="2350" y="98"/>
                  </a:cubicBezTo>
                  <a:cubicBezTo>
                    <a:pt x="2822" y="196"/>
                    <a:pt x="2827" y="481"/>
                    <a:pt x="2835" y="674"/>
                  </a:cubicBezTo>
                  <a:cubicBezTo>
                    <a:pt x="2843" y="867"/>
                    <a:pt x="2619" y="1063"/>
                    <a:pt x="2396" y="12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865680" y="2655720"/>
            <a:ext cx="3114720" cy="3651480"/>
          </a:xfrm>
          <a:custGeom>
            <a:avLst/>
            <a:gdLst/>
            <a:ahLst/>
            <a:rect l="l" t="t" r="r" b="b"/>
            <a:pathLst>
              <a:path w="2191" h="2437">
                <a:moveTo>
                  <a:pt x="143" y="2112"/>
                </a:moveTo>
                <a:cubicBezTo>
                  <a:pt x="71" y="2114"/>
                  <a:pt x="0" y="2116"/>
                  <a:pt x="207" y="2112"/>
                </a:cubicBezTo>
                <a:cubicBezTo>
                  <a:pt x="414" y="2108"/>
                  <a:pt x="1056" y="2437"/>
                  <a:pt x="1387" y="2085"/>
                </a:cubicBezTo>
                <a:cubicBezTo>
                  <a:pt x="1718" y="1733"/>
                  <a:pt x="1954" y="866"/>
                  <a:pt x="2191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2880" y="5245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80200" y="5245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16240" y="5257800"/>
            <a:ext cx="4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353360" y="4226040"/>
          <a:ext cx="128736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3360" y="4226040"/>
                    <a:ext cx="12873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ere’s a Tricky O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19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8 - 3.56 = _______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001600" y="3265560"/>
            <a:ext cx="9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.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91320" y="3265560"/>
            <a:ext cx="1955160" cy="1579320"/>
            <a:chOff x="1291320" y="3265560"/>
            <a:chExt cx="1955160" cy="1579320"/>
          </a:xfrm>
        </p:grpSpPr>
        <p:sp>
          <p:nvSpPr>
            <p:cNvPr id="258" name=""/>
            <p:cNvSpPr/>
            <p:nvPr/>
          </p:nvSpPr>
          <p:spPr>
            <a:xfrm>
              <a:off x="1602000" y="32655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1320" y="3962520"/>
              <a:ext cx="1625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3.5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9520" y="4687920"/>
              <a:ext cx="1866960" cy="156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3640" y="49068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5.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81520" y="3365640"/>
            <a:ext cx="2246400" cy="20732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523880" y="4992840"/>
            <a:ext cx="1640160" cy="520560"/>
            <a:chOff x="1523880" y="4992840"/>
            <a:chExt cx="1640160" cy="520560"/>
          </a:xfrm>
        </p:grpSpPr>
        <p:sp>
          <p:nvSpPr>
            <p:cNvPr id="264" name=""/>
            <p:cNvSpPr/>
            <p:nvPr/>
          </p:nvSpPr>
          <p:spPr>
            <a:xfrm flipH="1">
              <a:off x="1523880" y="4992840"/>
              <a:ext cx="164016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3880" y="5005440"/>
              <a:ext cx="164016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51520" y="3411360"/>
            <a:ext cx="0" cy="1059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09040" y="3265560"/>
            <a:ext cx="2126880" cy="1579320"/>
            <a:chOff x="6809040" y="3265560"/>
            <a:chExt cx="2126880" cy="1579320"/>
          </a:xfrm>
        </p:grpSpPr>
        <p:sp>
          <p:nvSpPr>
            <p:cNvPr id="268" name=""/>
            <p:cNvSpPr/>
            <p:nvPr/>
          </p:nvSpPr>
          <p:spPr>
            <a:xfrm>
              <a:off x="7162920" y="3265560"/>
              <a:ext cx="159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8. 0 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09040" y="3962520"/>
              <a:ext cx="191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3. 5 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78520" y="4687920"/>
              <a:ext cx="2057400" cy="156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215120" y="3111480"/>
            <a:ext cx="306360" cy="748800"/>
            <a:chOff x="7215120" y="3111480"/>
            <a:chExt cx="306360" cy="748800"/>
          </a:xfrm>
        </p:grpSpPr>
        <p:sp>
          <p:nvSpPr>
            <p:cNvPr id="272" name=""/>
            <p:cNvSpPr/>
            <p:nvPr/>
          </p:nvSpPr>
          <p:spPr>
            <a:xfrm>
              <a:off x="7215120" y="311148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219800" y="3454200"/>
              <a:ext cx="260280" cy="406080"/>
              <a:chOff x="7219800" y="3454200"/>
              <a:chExt cx="260280" cy="40608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7219800" y="3454200"/>
                <a:ext cx="24156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238880" y="3454200"/>
                <a:ext cx="24120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7672320" y="33210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13520" y="3111480"/>
            <a:ext cx="306360" cy="748800"/>
            <a:chOff x="7913520" y="3111480"/>
            <a:chExt cx="306360" cy="748800"/>
          </a:xfrm>
        </p:grpSpPr>
        <p:sp>
          <p:nvSpPr>
            <p:cNvPr id="278" name=""/>
            <p:cNvSpPr/>
            <p:nvPr/>
          </p:nvSpPr>
          <p:spPr>
            <a:xfrm>
              <a:off x="7913520" y="311148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918200" y="3454200"/>
              <a:ext cx="260280" cy="406080"/>
              <a:chOff x="7918200" y="3454200"/>
              <a:chExt cx="260280" cy="40608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7918200" y="3454200"/>
                <a:ext cx="24156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7937280" y="3454200"/>
                <a:ext cx="24120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8205840" y="33210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5160" y="4881600"/>
            <a:ext cx="183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4. 4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65360" y="5626080"/>
            <a:ext cx="5384880" cy="576360"/>
          </a:xfrm>
          <a:custGeom>
            <a:avLst/>
            <a:gdLst/>
            <a:ahLst/>
            <a:rect l="l" t="t" r="r" b="b"/>
            <a:pathLst>
              <a:path w="3392" h="363">
                <a:moveTo>
                  <a:pt x="3392" y="16"/>
                </a:moveTo>
                <a:cubicBezTo>
                  <a:pt x="2734" y="189"/>
                  <a:pt x="2077" y="363"/>
                  <a:pt x="1512" y="360"/>
                </a:cubicBezTo>
                <a:cubicBezTo>
                  <a:pt x="947" y="357"/>
                  <a:pt x="473" y="17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e’re Done!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ce job following along in the less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use what you learned in your wor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 McFarland ©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 and Subtract 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like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5600" y="1774800"/>
            <a:ext cx="83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71 + 58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+ 25 =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61080" y="3184560"/>
            <a:ext cx="1670040" cy="2287440"/>
            <a:chOff x="4861080" y="3184560"/>
            <a:chExt cx="1670040" cy="2287440"/>
          </a:xfrm>
        </p:grpSpPr>
        <p:sp>
          <p:nvSpPr>
            <p:cNvPr id="93" name=""/>
            <p:cNvSpPr/>
            <p:nvPr/>
          </p:nvSpPr>
          <p:spPr>
            <a:xfrm>
              <a:off x="5398920" y="5470560"/>
              <a:ext cx="113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3184560"/>
              <a:ext cx="1095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7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5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61080" y="4630680"/>
              <a:ext cx="49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803920" y="5514840"/>
            <a:ext cx="6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86480" y="2914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2160" y="551484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92560" y="2930400"/>
            <a:ext cx="1357200" cy="642600"/>
            <a:chOff x="4192560" y="2930400"/>
            <a:chExt cx="1357200" cy="642600"/>
          </a:xfrm>
        </p:grpSpPr>
        <p:sp>
          <p:nvSpPr>
            <p:cNvPr id="100" name=""/>
            <p:cNvSpPr/>
            <p:nvPr/>
          </p:nvSpPr>
          <p:spPr>
            <a:xfrm>
              <a:off x="4192560" y="293040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97600" y="3359160"/>
              <a:ext cx="45216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21520" y="2949480"/>
            <a:ext cx="1731960" cy="642600"/>
            <a:chOff x="6221520" y="2949480"/>
            <a:chExt cx="1731960" cy="642600"/>
          </a:xfrm>
        </p:grpSpPr>
        <p:sp>
          <p:nvSpPr>
            <p:cNvPr id="103" name=""/>
            <p:cNvSpPr/>
            <p:nvPr/>
          </p:nvSpPr>
          <p:spPr>
            <a:xfrm>
              <a:off x="6616800" y="294948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221520" y="3359160"/>
              <a:ext cx="45216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98480" y="397656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71680" y="1744560"/>
            <a:ext cx="670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7.1 + 5.8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+ 2.5 =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0880"/>
            <a:ext cx="81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 &amp; Subtract 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like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861080" y="3184560"/>
            <a:ext cx="1872720" cy="2287440"/>
            <a:chOff x="4861080" y="3184560"/>
            <a:chExt cx="1872720" cy="2287440"/>
          </a:xfrm>
        </p:grpSpPr>
        <p:sp>
          <p:nvSpPr>
            <p:cNvPr id="109" name=""/>
            <p:cNvSpPr/>
            <p:nvPr/>
          </p:nvSpPr>
          <p:spPr>
            <a:xfrm>
              <a:off x="5398920" y="5470560"/>
              <a:ext cx="130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1480" y="3184560"/>
              <a:ext cx="1552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7 . 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5 . 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2 . 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61080" y="4630680"/>
              <a:ext cx="49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951520" y="5514840"/>
            <a:ext cx="8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.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2914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72160" y="551484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46680" y="2930400"/>
            <a:ext cx="1602720" cy="642600"/>
            <a:chOff x="3946680" y="2930400"/>
            <a:chExt cx="1602720" cy="642600"/>
          </a:xfrm>
        </p:grpSpPr>
        <p:sp>
          <p:nvSpPr>
            <p:cNvPr id="116" name=""/>
            <p:cNvSpPr/>
            <p:nvPr/>
          </p:nvSpPr>
          <p:spPr>
            <a:xfrm>
              <a:off x="3946680" y="2930400"/>
              <a:ext cx="119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5520" y="3359160"/>
              <a:ext cx="53388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05280" y="2949480"/>
            <a:ext cx="2095560" cy="642600"/>
            <a:chOff x="6605280" y="2949480"/>
            <a:chExt cx="2095560" cy="642600"/>
          </a:xfrm>
        </p:grpSpPr>
        <p:sp>
          <p:nvSpPr>
            <p:cNvPr id="119" name=""/>
            <p:cNvSpPr/>
            <p:nvPr/>
          </p:nvSpPr>
          <p:spPr>
            <a:xfrm>
              <a:off x="7083720" y="2949480"/>
              <a:ext cx="16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05280" y="3359160"/>
              <a:ext cx="54684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48280" y="3519360"/>
            <a:ext cx="317520" cy="1881360"/>
          </a:xfrm>
          <a:prstGeom prst="downArrow">
            <a:avLst>
              <a:gd name="adj1" fmla="val 50000"/>
              <a:gd name="adj2" fmla="val 65835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397656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“Understood” Decimal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umber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= 1 ten + 5 ones (10 + 5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uld put a decimal to separate the whole number from the deci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.0   There is NO value in the tenths column, so we put 0 (ze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ition with the “Understood” Decimal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were adding 15 + 12 you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the problem 15.0 + 1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.0 + 12.0 = 27.0 or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re is no decimal value, the zer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the decim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NOT written, but they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derst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still be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ke The Columns Eve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34.5 + 21 + 8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00440" y="2437920"/>
            <a:ext cx="0" cy="8384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70080" y="3605040"/>
            <a:ext cx="1766880" cy="1625760"/>
            <a:chOff x="1270080" y="3605040"/>
            <a:chExt cx="1766880" cy="1625760"/>
          </a:xfrm>
        </p:grpSpPr>
        <p:sp>
          <p:nvSpPr>
            <p:cNvPr id="131" name=""/>
            <p:cNvSpPr/>
            <p:nvPr/>
          </p:nvSpPr>
          <p:spPr>
            <a:xfrm>
              <a:off x="1672920" y="3605040"/>
              <a:ext cx="996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34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8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70080" y="4581360"/>
              <a:ext cx="42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92200" y="5105520"/>
              <a:ext cx="1544760" cy="125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519280" y="411156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49480" y="3581280"/>
            <a:ext cx="571320" cy="1333800"/>
            <a:chOff x="2049480" y="3581280"/>
            <a:chExt cx="571320" cy="1333800"/>
          </a:xfrm>
        </p:grpSpPr>
        <p:sp>
          <p:nvSpPr>
            <p:cNvPr id="136" name=""/>
            <p:cNvSpPr/>
            <p:nvPr/>
          </p:nvSpPr>
          <p:spPr>
            <a:xfrm>
              <a:off x="2049480" y="3581280"/>
              <a:ext cx="571320" cy="854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340000" y="4587840"/>
              <a:ext cx="280800" cy="327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924080" y="3605040"/>
            <a:ext cx="99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3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21.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21240" y="4581360"/>
            <a:ext cx="4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5105520"/>
            <a:ext cx="1387440" cy="112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10160" y="3689280"/>
            <a:ext cx="108000" cy="1724040"/>
            <a:chOff x="5510160" y="3689280"/>
            <a:chExt cx="108000" cy="1724040"/>
          </a:xfrm>
        </p:grpSpPr>
        <p:sp>
          <p:nvSpPr>
            <p:cNvPr id="142" name=""/>
            <p:cNvSpPr/>
            <p:nvPr/>
          </p:nvSpPr>
          <p:spPr>
            <a:xfrm>
              <a:off x="5618160" y="3689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0160" y="3689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254560" y="206064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Add zeros to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eve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the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ke The Columns Eve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070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44.589 + 7.23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84200" y="2467080"/>
            <a:ext cx="1336680" cy="997920"/>
            <a:chOff x="1384200" y="2467080"/>
            <a:chExt cx="1336680" cy="997920"/>
          </a:xfrm>
        </p:grpSpPr>
        <p:sp>
          <p:nvSpPr>
            <p:cNvPr id="148" name=""/>
            <p:cNvSpPr/>
            <p:nvPr/>
          </p:nvSpPr>
          <p:spPr>
            <a:xfrm flipH="1" flipV="1">
              <a:off x="158580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1893960" y="2467080"/>
              <a:ext cx="28080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58560" y="2467080"/>
              <a:ext cx="2811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420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3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2467080"/>
            <a:ext cx="1336680" cy="997920"/>
            <a:chOff x="3048120" y="2467080"/>
            <a:chExt cx="1336680" cy="997920"/>
          </a:xfrm>
        </p:grpSpPr>
        <p:sp>
          <p:nvSpPr>
            <p:cNvPr id="153" name=""/>
            <p:cNvSpPr/>
            <p:nvPr/>
          </p:nvSpPr>
          <p:spPr>
            <a:xfrm flipH="1" flipV="1">
              <a:off x="335124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61476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812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2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19720" y="2467080"/>
            <a:ext cx="1336680" cy="997920"/>
            <a:chOff x="4419720" y="2467080"/>
            <a:chExt cx="1336680" cy="997920"/>
          </a:xfrm>
        </p:grpSpPr>
        <p:sp>
          <p:nvSpPr>
            <p:cNvPr id="157" name=""/>
            <p:cNvSpPr/>
            <p:nvPr/>
          </p:nvSpPr>
          <p:spPr>
            <a:xfrm flipH="1" flipV="1">
              <a:off x="442908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0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15280" y="441792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56.8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0280" y="2517840"/>
            <a:ext cx="2530440" cy="1851120"/>
            <a:chOff x="6110280" y="2517840"/>
            <a:chExt cx="2530440" cy="1851120"/>
          </a:xfrm>
        </p:grpSpPr>
        <p:sp>
          <p:nvSpPr>
            <p:cNvPr id="161" name=""/>
            <p:cNvSpPr/>
            <p:nvPr/>
          </p:nvSpPr>
          <p:spPr>
            <a:xfrm>
              <a:off x="6527880" y="2517840"/>
              <a:ext cx="2112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44.589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    </a:t>
              </a:r>
              <a:r>
                <a:rPr b="1" lang="en-US" sz="800" spc="-1" strike="noStrike">
                  <a:solidFill>
                    <a:srgbClr val="6600cc"/>
                  </a:solidFill>
                  <a:latin typeface="Tahoma"/>
                </a:rPr>
                <a:t>  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  </a:t>
              </a:r>
              <a:r>
                <a:rPr b="1" lang="en-US" sz="800" spc="-1" strike="noStrike">
                  <a:solidFill>
                    <a:srgbClr val="6600cc"/>
                  </a:solidFill>
                  <a:latin typeface="Tahoma"/>
                </a:rPr>
                <a:t>           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0280" y="3660840"/>
              <a:ext cx="42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0200" y="4243320"/>
              <a:ext cx="1849320" cy="125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215120" y="2465280"/>
            <a:ext cx="108000" cy="1724040"/>
            <a:chOff x="7215120" y="2465280"/>
            <a:chExt cx="108000" cy="1724040"/>
          </a:xfrm>
        </p:grpSpPr>
        <p:sp>
          <p:nvSpPr>
            <p:cNvPr id="165" name=""/>
            <p:cNvSpPr/>
            <p:nvPr/>
          </p:nvSpPr>
          <p:spPr>
            <a:xfrm>
              <a:off x="7323120" y="2465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15120" y="2465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331040" y="22334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2920" y="22334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19840" y="308628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77040" y="3076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8080" y="306720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0760" y="357192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2008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3424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2968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0092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ing Decimal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how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our colum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e “understood” 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en looking at a whole number like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could be 7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 7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f need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subtraction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 will be need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et’s Look at Subtrac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98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4 – 12 = _____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73520" y="3718080"/>
            <a:ext cx="1649520" cy="2289600"/>
            <a:chOff x="4673520" y="3718080"/>
            <a:chExt cx="1649520" cy="2289600"/>
          </a:xfrm>
        </p:grpSpPr>
        <p:sp>
          <p:nvSpPr>
            <p:cNvPr id="184" name=""/>
            <p:cNvSpPr/>
            <p:nvPr/>
          </p:nvSpPr>
          <p:spPr>
            <a:xfrm>
              <a:off x="4673520" y="3718080"/>
              <a:ext cx="1621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   </a:t>
              </a:r>
              <a:r>
                <a:rPr b="1" lang="en-US" sz="1200" spc="-1" strike="noStrike">
                  <a:solidFill>
                    <a:srgbClr val="3366cc"/>
                  </a:solidFill>
                  <a:latin typeface="Tahoma"/>
                </a:rPr>
                <a:t>  </a:t>
              </a:r>
              <a:r>
                <a:rPr b="1" lang="en-US" sz="600" spc="-1" strike="noStrike">
                  <a:solidFill>
                    <a:srgbClr val="3366cc"/>
                  </a:solidFill>
                  <a:latin typeface="Tahoma"/>
                </a:rPr>
                <a:t> </a:t>
              </a: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3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 1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5600" y="5079960"/>
              <a:ext cx="1387440" cy="112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09280" y="524340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2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21200" y="3322800"/>
            <a:ext cx="1330200" cy="642600"/>
            <a:chOff x="4021200" y="3322800"/>
            <a:chExt cx="1330200" cy="642600"/>
          </a:xfrm>
        </p:grpSpPr>
        <p:sp>
          <p:nvSpPr>
            <p:cNvPr id="188" name=""/>
            <p:cNvSpPr/>
            <p:nvPr/>
          </p:nvSpPr>
          <p:spPr>
            <a:xfrm>
              <a:off x="4021200" y="3322800"/>
              <a:ext cx="9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8240" y="3751200"/>
              <a:ext cx="443160" cy="183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94440" y="3341520"/>
            <a:ext cx="1514160" cy="642600"/>
            <a:chOff x="6094440" y="3341520"/>
            <a:chExt cx="1514160" cy="642600"/>
          </a:xfrm>
        </p:grpSpPr>
        <p:sp>
          <p:nvSpPr>
            <p:cNvPr id="191" name=""/>
            <p:cNvSpPr/>
            <p:nvPr/>
          </p:nvSpPr>
          <p:spPr>
            <a:xfrm>
              <a:off x="6440040" y="3341520"/>
              <a:ext cx="116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094440" y="3751200"/>
              <a:ext cx="39528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8:14:20Z</dcterms:created>
  <dc:creator>JoAnne Hodgson</dc:creator>
  <dc:description/>
  <dc:language>en-US</dc:language>
  <cp:lastModifiedBy>Doug McFarland</cp:lastModifiedBy>
  <dcterms:modified xsi:type="dcterms:W3CDTF">2006-07-13T21:52:38Z</dcterms:modified>
  <cp:revision>11</cp:revision>
  <dc:subject/>
  <dc:title>No Slide Title</dc:title>
</cp:coreProperties>
</file>